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7.jpeg" ContentType="image/jpe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A3C-F31A-48EC-B8CF-229A1217F064}" type="slidenum"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7EB4-21C9-401E-B15E-2961362A4DEC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Henretta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’s History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5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D207-2833-497C-AE2C-25B0133E9DDA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Henretta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’s History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5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B17-E765-44BF-B3DA-769FDA1B3285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aragher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Out of Many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Ed.; http://wps.prenhall.com/hss_faragher_outofmany_ap/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0291-33BB-4502-9514-07186D9FCEE3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, 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America and Its Peopl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527-F0AF-400B-93D1-53C19A3835F7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, 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America and Its Peopl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D268-42E0-44B7-B3CC-5CF36B7C1471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http://www.wadsworth.com/history_d/special_features/image_bank_US/1642_1715.htm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A28-608B-41AA-8797-EB1D3D88A23E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Roark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n Promise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3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C4FC-42C6-4455-8131-0632E409AF27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http://www.wadsworth.com/history_d/special_features/image_bank_US/1690_1763.htm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82D-931C-4351-A52C-389598DC7CFE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, 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America and Its Peopl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5471-AC31-4303-BC7F-6A5CA97BE602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aragher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Out of Many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Ed.; http://wps.prenhall.com/hss_faragher_outofmany_ap/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FAE2-4E27-4FCD-B6C5-55C66EE82CA0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aragher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Out of Many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Ed.; http://wps.prenhall.com/hss_faragher_outofmany_ap/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ABAD-CF6E-4204-B14A-C8A3C2FFB1E1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Roark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n Promise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3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270-DEBA-4B8A-A7E7-44FEECF0F805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J. Jones, P. Wood, et al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REATED EQUAL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 A Social and Political History of the US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http://wps.ablongman.com/long_jones_ce_1/0,7283,494555-,00.htm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226-48DD-42C5-A258-E015076409C6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Divine, America Past &amp; Present 7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906-9872-4151-B90E-C04925F6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BEB-68A0-4CC5-A2FF-A704DD13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CD9-DC89-41C8-A6BA-98AFC173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51B-550A-43AC-BC9C-6376C8F1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598-55C7-4CB3-B239-5A4C395B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BB0-C807-4652-9897-07FBD55D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723-691B-4285-8CE7-8454C83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1B6-9675-42DA-9362-FE4F1E79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2AA-2735-4BDA-AB6E-2FFC26AB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3ED-28D0-47D8-9E84-797115A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E31-6DB1-4479-9C7A-5A1FEE6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3AF-38B9-4C6B-B3F2-E5C472E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d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BEF0-CF21-4B8B-B576-EBA26B572D45}" type="slidenum"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10480" cy="40384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e7960"/>
                </a:solidFill>
                <a:latin typeface="Garamond"/>
              </a:rPr>
              <a:t>Colonial Life </a:t>
            </a:r>
            <a:r>
              <a:rPr b="1" lang="en-US" sz="8000" spc="-1" strike="noStrike">
                <a:solidFill>
                  <a:srgbClr val="be7960"/>
                </a:solidFill>
                <a:latin typeface="Garamond"/>
              </a:rPr>
              <a:t>and</a:t>
            </a:r>
            <a:r>
              <a:rPr b="1" lang="en-US" sz="9600" spc="-1" strike="noStrike">
                <a:solidFill>
                  <a:srgbClr val="be7960"/>
                </a:solidFill>
                <a:latin typeface="Garamond"/>
              </a:rPr>
              <a:t> Society</a:t>
            </a:r>
            <a:endParaRPr b="1" lang="en-US" sz="96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333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A03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Garamond"/>
              </a:rPr>
              <a:t>7.8.31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9096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Religion: Diversity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67280" y="1981080"/>
            <a:ext cx="2819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Tolerance?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Great Awakening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George Whitefield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pic>
        <p:nvPicPr>
          <p:cNvPr id="78" name="Picture 3" descr="20279"/>
          <p:cNvPicPr/>
          <p:nvPr/>
        </p:nvPicPr>
        <p:blipFill>
          <a:blip r:embed="rId1"/>
          <a:stretch/>
        </p:blipFill>
        <p:spPr>
          <a:xfrm>
            <a:off x="762120" y="0"/>
            <a:ext cx="48178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638680" y="6172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5f2f"/>
                </a:solidFill>
                <a:latin typeface="Garamond"/>
              </a:rPr>
              <a:t>Religious Diversity in 17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Education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New England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Old Satan Deluder” Act (1647)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d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Economy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Mercantilism – theory, purpose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Navigation Acts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triangular” trade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muggling – quality of royal officials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Garamond"/>
              </a:rPr>
              <a:t>The Rise of the American Merchant, 1750</a:t>
            </a: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85" name="Picture 3" descr="20276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4290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Value of Colonial Exports by Region, Annual Average, 1768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1772</a:t>
            </a:r>
            <a:endParaRPr b="1" lang="en-US" sz="36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87" name="Picture 3" descr="_x0010_Chp04-03p097.gif                                               00070FBD_x000c_Macintosh HD                   ABA78158:"/>
          <p:cNvPicPr/>
          <p:nvPr/>
        </p:nvPicPr>
        <p:blipFill>
          <a:blip r:embed="rId1"/>
          <a:stretch/>
        </p:blipFill>
        <p:spPr>
          <a:xfrm>
            <a:off x="3733920" y="304920"/>
            <a:ext cx="4971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lonial Products in the Mid-1700s</a:t>
            </a:r>
            <a:endParaRPr b="1" lang="en-US" sz="32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89" name="Picture 3" descr="MART"/>
          <p:cNvPicPr/>
          <p:nvPr/>
        </p:nvPicPr>
        <p:blipFill>
          <a:blip r:embed="rId1"/>
          <a:srcRect l="32011" t="0" r="0" b="23532"/>
          <a:stretch/>
        </p:blipFill>
        <p:spPr>
          <a:xfrm>
            <a:off x="2852640" y="914400"/>
            <a:ext cx="316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5f2f"/>
                </a:solidFill>
                <a:latin typeface="Garamond"/>
              </a:rPr>
              <a:t>Government: </a:t>
            </a: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Britain &amp; Its Colonies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Tradition of Lax Rule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nglish Civil War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Glorious Revolution - triumph of Parliament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George I and II reliance on Parliament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Whigs”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alutary Neglect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Colonial tradition of self-rule 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Colonial assemblies - powers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Weakness of governors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able041"/>
          <p:cNvPicPr/>
          <p:nvPr/>
        </p:nvPicPr>
        <p:blipFill>
          <a:blip r:embed="rId1"/>
          <a:stretch/>
        </p:blipFill>
        <p:spPr>
          <a:xfrm>
            <a:off x="1697040" y="457200"/>
            <a:ext cx="5465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720" y="274320"/>
            <a:ext cx="259092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Garamond"/>
              </a:rPr>
              <a:t>Government and religion in the British Colonies, 1720</a:t>
            </a:r>
            <a:r>
              <a:rPr b="1" lang="en-US" sz="4400" spc="-1" strike="noStrike">
                <a:solidFill>
                  <a:srgbClr val="be796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94" name="Picture 4" descr="3_32"/>
          <p:cNvPicPr/>
          <p:nvPr/>
        </p:nvPicPr>
        <p:blipFill>
          <a:blip r:embed="rId1"/>
          <a:srcRect l="0" t="0" r="0" b="6530"/>
          <a:stretch/>
        </p:blipFill>
        <p:spPr>
          <a:xfrm>
            <a:off x="0" y="-95400"/>
            <a:ext cx="66103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7960"/>
                </a:solidFill>
                <a:latin typeface="Garamond"/>
              </a:rPr>
              <a:t>Eighteenth century merchants conducting business in a coffeehouse</a:t>
            </a:r>
            <a:r>
              <a:rPr b="1" lang="en-US" sz="4400" spc="-1" strike="noStrike">
                <a:solidFill>
                  <a:srgbClr val="be796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96" name="Picture 4" descr="3_11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743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5f2f"/>
                </a:solidFill>
                <a:latin typeface="Garamond"/>
              </a:rPr>
              <a:t>American Colonies at the End of the Seventeenth Century</a:t>
            </a: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51" name="Picture 3" descr="21778"/>
          <p:cNvPicPr/>
          <p:nvPr/>
        </p:nvPicPr>
        <p:blipFill>
          <a:blip r:embed="rId1"/>
          <a:stretch/>
        </p:blipFill>
        <p:spPr>
          <a:xfrm>
            <a:off x="2870280" y="0"/>
            <a:ext cx="62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7960"/>
                </a:solidFill>
                <a:latin typeface="Garamond"/>
              </a:rPr>
              <a:t>Snake cartoon by Benjamin Franklin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98" name="Picture 9" descr="4_3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7960"/>
                </a:solidFill>
                <a:latin typeface="Garamond"/>
              </a:rPr>
              <a:t>Population: Rapid Growth</a:t>
            </a:r>
            <a:endParaRPr b="1" lang="en-US" sz="4800" spc="-1" strike="noStrike">
              <a:solidFill>
                <a:srgbClr val="8f5f2f"/>
              </a:solidFill>
              <a:latin typeface="Garamond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0" y="1871640"/>
          <a:ext cx="9144000" cy="49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71640"/>
                    <a:ext cx="91440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8880" y="83772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5f2f"/>
                </a:solidFill>
                <a:latin typeface="Garamond"/>
              </a:rPr>
              <a:t>Population Growth</a:t>
            </a:r>
            <a:endParaRPr b="1" lang="en-US" sz="28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86240" y="3580920"/>
            <a:ext cx="16002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pic>
        <p:nvPicPr>
          <p:cNvPr id="57" name="Picture 2" descr="Table031"/>
          <p:cNvPicPr/>
          <p:nvPr/>
        </p:nvPicPr>
        <p:blipFill>
          <a:blip r:embed="rId1"/>
          <a:stretch/>
        </p:blipFill>
        <p:spPr>
          <a:xfrm>
            <a:off x="304920" y="228600"/>
            <a:ext cx="6858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358164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Garamond"/>
                <a:ea typeface="Times New Roman"/>
              </a:rPr>
              <a:t>Estimated Total Population of New Spain, New France, and the British North American Colonies, 170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993300"/>
                </a:solidFill>
                <a:latin typeface="Garamond"/>
                <a:ea typeface="Times New Roman"/>
              </a:rPr>
              <a:t>1780</a:t>
            </a:r>
            <a:endParaRPr b="1" lang="en-US" sz="32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59" name="Picture 3" descr="_x0010_Chp05-02p120.gif                                               00070FC6_x000c_Macintosh HD                   ABA78158:"/>
          <p:cNvPicPr/>
          <p:nvPr/>
        </p:nvPicPr>
        <p:blipFill>
          <a:blip r:embed="rId1"/>
          <a:stretch/>
        </p:blipFill>
        <p:spPr>
          <a:xfrm>
            <a:off x="3733920" y="914400"/>
            <a:ext cx="5248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3526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  <a:ea typeface="Times New Roman"/>
              </a:rPr>
              <a:t>Population: Geographic Expansion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61" name="Picture 3" descr="_x0010_Chp05-05p115.gif                                               00070FC6_x000c_Macintosh HD                   ABA78158:"/>
          <p:cNvPicPr/>
          <p:nvPr/>
        </p:nvPicPr>
        <p:blipFill>
          <a:blip r:embed="rId1"/>
          <a:stretch/>
        </p:blipFill>
        <p:spPr>
          <a:xfrm>
            <a:off x="4032360" y="228600"/>
            <a:ext cx="4943520" cy="6400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2" name="Text Box 4"/>
          <p:cNvSpPr/>
          <p:nvPr/>
        </p:nvSpPr>
        <p:spPr>
          <a:xfrm>
            <a:off x="4495680" y="5638680"/>
            <a:ext cx="4191120" cy="703800"/>
          </a:xfrm>
          <a:prstGeom prst="rect">
            <a:avLst/>
          </a:prstGeom>
          <a:solidFill>
            <a:srgbClr val="8c7b7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ovement  into the Backcountry, 1720–176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1244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Population: Ethnic &amp; Racial Diversity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64" name="Picture 3" descr="21779"/>
          <p:cNvPicPr/>
          <p:nvPr/>
        </p:nvPicPr>
        <p:blipFill>
          <a:blip r:embed="rId1"/>
          <a:stretch/>
        </p:blipFill>
        <p:spPr>
          <a:xfrm>
            <a:off x="38718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006" t="0" r="1006" b="0"/>
          <a:stretch/>
        </p:blipFill>
        <p:spPr>
          <a:xfrm>
            <a:off x="92160" y="1600200"/>
            <a:ext cx="8959680" cy="3794040"/>
          </a:xfrm>
          <a:prstGeom prst="rect">
            <a:avLst/>
          </a:prstGeom>
          <a:ln w="57240">
            <a:solidFill>
              <a:srgbClr val="8f5f2f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8580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Population: Age</a:t>
            </a:r>
            <a:r>
              <a:rPr b="1" lang="en-US" sz="20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5800" y="5562720"/>
            <a:ext cx="8001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Garamond"/>
              </a:rPr>
              <a:t>Population Structure by Gender and Age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Garamond"/>
              </a:rPr>
              <a:t>British Mainland Colonies, 1760s, and United States, 1980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Societies &amp; Economies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graphicFrame>
        <p:nvGraphicFramePr>
          <p:cNvPr id="74" name="Object 7"/>
          <p:cNvGraphicFramePr/>
          <p:nvPr/>
        </p:nvGraphicFramePr>
        <p:xfrm>
          <a:off x="0" y="1523880"/>
          <a:ext cx="9144000" cy="51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1:28:31Z</dcterms:created>
  <dc:creator>April &amp; Greg Long</dc:creator>
  <dc:description/>
  <dc:language>en-US</dc:language>
  <cp:lastModifiedBy>Owner</cp:lastModifiedBy>
  <dcterms:modified xsi:type="dcterms:W3CDTF">2012-09-06T09:31:23Z</dcterms:modified>
  <cp:revision>37</cp:revision>
  <dc:subject/>
  <dc:title>Colonial America</dc:title>
</cp:coreProperties>
</file>